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698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98D1226C-099E-4C3B-82CB-F29D5361AB5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6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68080" y="6567480"/>
            <a:ext cx="873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Managing TSP Teams - Module 1 - </a:t>
            </a:r>
            <a:fld id="{B87ABF38-C515-4049-BC1C-53D721EAAA4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Managing TSP Teams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2: Using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Student 14’s development time for program 5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estimated time = (Estimated size)/(historical LOC/hou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the total defects Student 14 will likely inje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2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injected = (5A estimated size)*(Defects to date)/(Size to dat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how long Student 14 will spend in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3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in test = (Total estimated time)*(% time in test)/1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36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estimate for program 5A development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id you estimate Student 14 will inject while writing program 5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will Student 14 likely spend in unit tes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o your estimates compare with the actual results and what could have caused the differenc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be the likely consequences of inaccurate or incomplete dat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s the value of PSP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llustrates ways to use these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s the value of having complete and accurat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first describe the data gathered by a software developer and describe how these data can b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then provide some developer data and ask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data to answer som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Data Gather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tool provides an easy way for team members to record their time, size, defect, and task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are the same data they learn to gather and use with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is tool, the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when they start and stop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 each defect when found and fix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size of each product when it is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the date when each task is compl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PSP and TSP Pla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, develop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otal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is time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total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e defect estimates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stimating process works because develop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t a fairly consistent LOC/hour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nd roughly the same amount of time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 about the same number of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Form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TSP forms summarize all of a team’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 form shows the team’s schedule performance for every project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Q (quality summary) form summarizes the quality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P (plan summary) form holds the time, size, and defect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only uses the data on the SUMP form.  Exercises 3 and 4 use the WEEK and SUMQ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00360" y="1538280"/>
            <a:ext cx="4913280" cy="50976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4541760" y="1538280"/>
            <a:ext cx="1714680" cy="5968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1708200"/>
            <a:ext cx="2743200" cy="34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roject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514680" y="17938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4884840" y="2220840"/>
            <a:ext cx="1285920" cy="15382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5800" y="2819520"/>
            <a:ext cx="2743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iz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514680" y="2905200"/>
            <a:ext cx="941400" cy="169920"/>
          </a:xfrm>
          <a:prstGeom prst="rightArrow">
            <a:avLst>
              <a:gd name="adj1" fmla="val 50000"/>
              <a:gd name="adj2" fmla="val 13850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4970520" y="3844800"/>
            <a:ext cx="1285920" cy="2478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" y="4870440"/>
            <a:ext cx="27525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im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514680" y="49546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13120" y="1538280"/>
            <a:ext cx="3084840" cy="49356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5827680" y="153828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284720" y="2478240"/>
            <a:ext cx="1371600" cy="169560"/>
          </a:xfrm>
          <a:prstGeom prst="rightArrow">
            <a:avLst>
              <a:gd name="adj1" fmla="val 50000"/>
              <a:gd name="adj2" fmla="val 20222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71600" y="44434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remov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5827680" y="367344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284720" y="4613400"/>
            <a:ext cx="1371600" cy="171360"/>
          </a:xfrm>
          <a:prstGeom prst="rightArrow">
            <a:avLst>
              <a:gd name="adj1" fmla="val 50000"/>
              <a:gd name="adj2" fmla="val 200105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371600" y="58942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ummary inform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370400" y="5979960"/>
            <a:ext cx="1371600" cy="17172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5742000" y="5810400"/>
            <a:ext cx="1714320" cy="5126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371600" y="246852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inject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14 has complete writing 4 of the PSP course programs and is planning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a SUMP form with the data for Student 14’s first four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UMP form shows the actual time, size, and defect data for programs 1 through 4 and the distribution of these  data among the 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also given Student 14’s size estimate for program 5A (112 LOC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exercise, you use these data to produce part of the estimate for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4:26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6:17Z</dcterms:modified>
  <cp:revision>27</cp:revision>
  <dc:subject>24 July 2001 / 3:30pm</dc:subject>
  <dc:title>PowerPoint Presentation</dc:title>
</cp:coreProperties>
</file>